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51675" cy="9356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52400" cy="935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5604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95280" y="-360"/>
            <a:ext cx="305604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8560" cy="350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9528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B9CBFEF-DEFC-49AA-99E1-1F1C58758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8560" cy="350856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 – The key to a community of learners. The key to Making It Happen.   Real talk equals real results.  Good for students, good for adults.   Classroom and commun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8560" cy="350856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to the connection between teacher effectiveness and student 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C and 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8560" cy="350856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declarative and procedural 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8560" cy="350856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to the connection between teacher effectiveness and student 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C and 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63F2-81E5-4A38-BA2E-6905D62BB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9DBF-049A-4EA9-8470-46AB0E6BB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24B1-432F-455D-8C48-8CFCE1853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6B2E-4B98-4907-90D6-C39ECE85B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65B7-15A7-4323-B115-3C234EAC1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BCAF-46EA-4CCD-AFEA-B7C90AE6C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87FC-37F0-4BA2-AB78-C7F3EFFFB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AEA3-48F1-4DC7-9452-EB298A7C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E2F9-6794-4B50-B06F-63C7F686F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B11F-39C8-474D-929F-53B64DFA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9ABC-E63D-4C20-B5F8-C97C3ADF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86B4-75FD-474C-BE81-4EB12A01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23F3F-C56C-4B24-BFD4-3A1CAB50852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6945D-4490-446C-87A4-B45AA40F4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133720" y="457200"/>
            <a:ext cx="4419360" cy="4343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Jester"/>
              </a:rPr>
              <a:t>North Rockland High School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Jester"/>
              <a:ea typeface="Jester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819520" y="1143000"/>
          <a:ext cx="302580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143000"/>
                    <a:ext cx="302580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800600"/>
            <a:ext cx="86104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Tempus Sans ITC"/>
              </a:rPr>
              <a:t>Make It Happen </a:t>
            </a:r>
            <a:br>
              <a:rPr sz="3600"/>
            </a:br>
            <a:r>
              <a:rPr b="0" lang="en-US" sz="3600" spc="-1" strike="noStrike">
                <a:solidFill>
                  <a:srgbClr val="009900"/>
                </a:solidFill>
                <a:latin typeface="Tempus Sans ITC"/>
              </a:rPr>
              <a:t>The Power of Communication and Thinking</a:t>
            </a:r>
            <a:br>
              <a:rPr sz="3600"/>
            </a:br>
            <a:r>
              <a:rPr b="0" lang="en-US" sz="3600" spc="-1" strike="noStrike">
                <a:solidFill>
                  <a:srgbClr val="009900"/>
                </a:solidFill>
                <a:latin typeface="Tempus Sans ITC"/>
              </a:rPr>
              <a:t>2008-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441972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BEE86A-BAB5-4506-BA6A-3CCB17D6EE3A}" type="datetime1">
              <a:rPr lang="en-US"/>
              <a:t>07/30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empus Sans ITC"/>
              </a:rPr>
              <a:t>Six Pillars of Charac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irit 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itment to Excel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 and Character Education (7 Habits of Highly Successful Tee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C19F94-DFC9-4DF4-9F80-F55C1073589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Tempus Sans ITC"/>
              </a:rPr>
              <a:t>Faculty Meeting</a:t>
            </a:r>
            <a:br>
              <a:rPr sz="4000"/>
            </a:br>
            <a:r>
              <a:rPr b="0" lang="en-US" sz="4000" spc="-1" strike="noStrike">
                <a:solidFill>
                  <a:srgbClr val="006600"/>
                </a:solidFill>
                <a:latin typeface="Tempus Sans ITC"/>
              </a:rPr>
              <a:t>October 16, 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rzano’s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The Art and Science of Tea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ocus Ques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What will I do to establish and communicate learning goals, track student progress, and celebrate succ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Key Ter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tive Assessment 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5716FE-D09E-4C0F-913A-4DCCBAA8885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empus Sans ITC"/>
              </a:rPr>
              <a:t>We will always revisit our . .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hree Critical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are we go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I close the gaps in student understanding and abilit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Key Term: Greatest Area of Need (GA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0DE29D-DA52-49C2-B48A-F0186BF0FD72}" type="datetime1">
              <a:rPr lang="en-US"/>
              <a:t>07/30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empus Sans ITC"/>
              </a:rPr>
              <a:t>Scenario and Ref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Read the scenario “In the Classroom” on pgs. 9-10 from Marzano’s The Art and Science of Tea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B.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How is student feedback related to effective, teacher goal setting? Discuss at your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2AA015-A850-42B9-8F82-6B60275A5BD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336600"/>
                </a:solidFill>
                <a:latin typeface="Tempus Sans ITC"/>
              </a:rPr>
              <a:t>Where am I going?</a:t>
            </a:r>
            <a:br>
              <a:rPr sz="4400"/>
            </a:br>
            <a:r>
              <a:rPr b="0" lang="en-US" sz="4400" spc="-1" strike="noStrike">
                <a:solidFill>
                  <a:srgbClr val="336600"/>
                </a:solidFill>
                <a:latin typeface="Tempus Sans ITC"/>
              </a:rPr>
              <a:t>Goal se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ction Step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Create learning goals and learning activ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C. Discuss the differences between learning goals and learning activities with a partner or at your table.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Read pgs. 17-19 (Action Step One).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ction Step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Create rubric for each learning go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Key Term: </a:t>
            </a:r>
            <a:r>
              <a:rPr b="0" i="1" lang="en-US" sz="2800" spc="-1" strike="noStrike">
                <a:solidFill>
                  <a:srgbClr val="336600"/>
                </a:solidFill>
                <a:latin typeface="Arial"/>
              </a:rPr>
              <a:t>Know it – Us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AB4022-E19D-43F8-872B-C123855C1A1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336600"/>
                </a:solidFill>
                <a:latin typeface="Tempus Sans ITC"/>
              </a:rPr>
              <a:t>Where Am I now?</a:t>
            </a:r>
            <a:br>
              <a:rPr sz="4400"/>
            </a:br>
            <a:r>
              <a:rPr b="0" lang="en-US" sz="4400" spc="-1" strike="noStrike">
                <a:solidFill>
                  <a:srgbClr val="336600"/>
                </a:solidFill>
                <a:latin typeface="Tempus Sans ITC"/>
              </a:rPr>
              <a:t>Formative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tion Step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Have students identify their own learning goa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tion Step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ssess students using a formative approa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D. How are you assessing students in your current unit of study?  How are you using that data to inform instru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Formative, Common assess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Summative assessments (Regents, final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689C7D-565A-43B9-9B0F-9EDA9148595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Tempus Sans ITC"/>
              </a:rPr>
              <a:t>How can I close the ga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tion Step 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Have students chart their progress on each learning go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tion Step 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Recognize and celebrate student growt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E. How can you incorporate student goal setting in this current unit of stud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Key Ter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Academic Interventions, Differentiated Instruction, “Perfect Practice”, Greatest Area of Need (G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32659D-E761-4636-8F38-E5CC185947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Tempus Sans ITC"/>
              </a:rPr>
              <a:t>Faculty Meeting</a:t>
            </a:r>
            <a:br>
              <a:rPr sz="4000"/>
            </a:br>
            <a:r>
              <a:rPr b="0" lang="en-US" sz="4000" spc="-1" strike="noStrike">
                <a:solidFill>
                  <a:srgbClr val="006600"/>
                </a:solidFill>
                <a:latin typeface="Tempus Sans ITC"/>
              </a:rPr>
              <a:t>October 16, 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ocus Ques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What will I do to establish and communicate learning goals, track student progress, and celebrate succ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29EFB5-ECC4-4ADA-98F8-43086AE99A3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38:34Z</dcterms:created>
  <dc:creator>North Rockland High School</dc:creator>
  <dc:description/>
  <dc:language>en-US</dc:language>
  <cp:lastModifiedBy>North Rockland High School</cp:lastModifiedBy>
  <dcterms:modified xsi:type="dcterms:W3CDTF">2008-10-11T19:28:59Z</dcterms:modified>
  <cp:revision>8</cp:revision>
  <dc:subject/>
  <dc:title>Make It Happen  The Power of Communication and Thinking 2008-2009</dc:title>
</cp:coreProperties>
</file>